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1108-5B46-4165-B1EF-5152CCEBB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AFD6-D8D3-4322-8B92-85F15F80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3EB8-A394-4D9B-9621-30AE3DDF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E3EB-F53A-4E11-AB35-885264B9C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5E27-B85E-4A74-968D-70BDAEED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82AA-7E3C-4407-B3D8-613198DF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58B9-5571-4409-A436-789F5D937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5354-F2C5-4F05-BA5D-9B06C3E0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524E-173E-4A4C-B223-D57B2D52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5AC7-18BE-4382-8EC0-30EDC0793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B1B4-8583-4958-ACD8-3746D0CBE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0335-93A6-43E5-9DAD-DF2ABC50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570-B97A-453E-AC94-C3ED588E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F04-A451-479B-B91D-F162F61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59C-5E08-400E-B289-EC611A9D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4FC-A866-44C0-A53A-8A57ADCC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0DF3-507B-47C6-A0D1-E43CDA96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7F43-0A9D-4719-B20B-85EFDD5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FD54-A093-4B08-8658-73458B16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9720-DA38-4C01-8BF8-A7C2ADA6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1CC0-40DE-4A5C-8550-4EEF9789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FC4C-AE6D-45DB-B29B-730CCE59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705-504B-422F-B67F-40BF21E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9E7-945E-45FE-90C1-0D537535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5CDF-B585-4B0E-AE86-E08D4BF0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DB1E-DAA4-4AEB-86F5-3654C03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E2B3-9762-4C8A-AB83-4E45A71B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2CE1-5672-4C1A-BFB5-612AA96D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C3D7-C960-4E76-8536-42436B88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E3F0-954D-45C8-BCBC-724FF39E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AE1D-DA9A-4DBE-9AC2-53BFA180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1E32-18DF-49A0-B2F3-D3584BB9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8D3E-0470-4EE3-8295-C9C72096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CC7D-0F22-410B-8D33-75DB1ED8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91D-1768-4945-9858-16E42054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23A6-62D3-4AAC-BC0B-66AF83CB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1F04-2F39-48C2-A60F-F823106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AAFC-A89F-491B-81F3-12B3A5D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D0E1-A579-45B5-8091-4EE1F5A3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3D1C-F53F-468D-B7E8-EDB33693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EE67-890E-45F3-BED8-6F5E8404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2367-009E-4C00-B423-80EDCAF4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FEC-1FDB-4FEF-8C14-AE5F5FE2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2A3-43A1-4294-94C3-0DEC11B3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D3B-13DF-4800-9333-FAEF0FE8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FB3-452A-4305-B3DF-409B336D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7C7-BA72-4BDF-93AA-E60013E5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BD4-E8CA-44B0-8C22-D2A6D93D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120" y="-4680"/>
                <a:ext cx="98748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3440"/>
                <a:ext cx="987480" cy="5004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20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568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8760"/>
                <a:ext cx="9871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520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08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064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75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560"/>
                <a:ext cx="100008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84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56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360"/>
                <a:ext cx="98712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2120"/>
                <a:ext cx="100008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84F8-346C-49FB-85BA-6BA327314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13E1-2247-490D-9A2C-757D4B34EF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1027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107" name="Freeform 1028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029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030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31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032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033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34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35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36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037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038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039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040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041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042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043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044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045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046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1047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48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FB66-B122-4DE7-A6F3-710E49057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ing Worksh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1462320" cy="1752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osu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bring closure to the reading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hare how they incorporated the mini-lesson into their reading/writing work.  Students share successes/challenges of their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discussion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Art of Teaching Re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ucy Calk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iding Readers &amp; Wri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untas &amp; Pinn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didng with Mea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bbie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7 Keys to Comprehen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san Zimmerman and Chryse Hutc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ee to Knee, Eye to Ey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rthis Davis 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egies that 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tephanie Havey &amp; Anne Goud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sential Ques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o I prepare to teach read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re the components of the reading workshop block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do I prepare to teach reading?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Knowledg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how reading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how text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do I prepare to teach reading? 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ssroo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ing your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of classroom books should be leve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ing your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should be displayed and accessible to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do I prepare to teach reading? 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Levels/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Records, DRAs, Benchmark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Inven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who your students are as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Reading/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Workshop Inte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Reading/Buz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Share Time/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br>
              <a:rPr sz="2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niless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ort lesson that focuses on procedures, a reading strategy, or a reading skill.  The lesson contains an essential question/objective, explanation/teaching, demonstration, practice, and cl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ly listening, Practi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Instructs, Mode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dependent Reading/Conferenc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hoose books to read that are on their independent reading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-40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, Recording thinking, Journal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ing with stud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ng Strategy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Book Cl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uzzing/Discuss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re matched in ability partnerships to discuss their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10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, 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ing with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tend/support student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7:55:15Z</dcterms:created>
  <dc:creator>Tech Services</dc:creator>
  <dc:description/>
  <dc:language>en-US</dc:language>
  <cp:lastModifiedBy>Tech Services</cp:lastModifiedBy>
  <cp:lastPrinted>2009-07-02T19:01:16Z</cp:lastPrinted>
  <dcterms:modified xsi:type="dcterms:W3CDTF">2010-10-18T20:16:03Z</dcterms:modified>
  <cp:revision>18</cp:revision>
  <dc:subject/>
  <dc:title>Reading Workshop</dc:title>
</cp:coreProperties>
</file>